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A02C-9394-4459-99D6-C2190CF4D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5C9E-1636-477B-BC0B-AE8E8952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786E-E541-4DDD-9F3F-B27F7E651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DFDC-F2C3-49D9-9193-8E43D42B5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4212-55DC-4FB8-925D-124E4C30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F2EB-2AFA-42D7-BC52-D3EDDE68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FAA9-A346-4242-8637-913348B1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26F7-DF3E-40B8-8A3E-F66D4A24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12AC-CC0E-4C62-97D3-113749B8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DAF2-4DB0-46D9-A975-1614BB76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6F67-B85A-4846-BE68-A3CB722A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3455-F1E8-4E99-BC7D-FB6DD9D9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9596B2-1923-4F11-B370-B8210AFBB5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38773C-8FC3-49D5-AD20-F580B69AA7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U3 Study Gu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val 3"/>
          <p:cNvSpPr/>
          <p:nvPr/>
        </p:nvSpPr>
        <p:spPr>
          <a:xfrm>
            <a:off x="0" y="882720"/>
            <a:ext cx="5780160" cy="578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4"/>
          <p:cNvSpPr/>
          <p:nvPr/>
        </p:nvSpPr>
        <p:spPr>
          <a:xfrm>
            <a:off x="3363840" y="882720"/>
            <a:ext cx="5780160" cy="578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3595680" y="2789280"/>
            <a:ext cx="2076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ypes of cellular rep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933480" y="360360"/>
            <a:ext cx="281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t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5249880" y="360360"/>
            <a:ext cx="281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671400" y="1806480"/>
            <a:ext cx="29070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duces 2 ce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duces body ce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ed for growth and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457200" y="3803760"/>
            <a:ext cx="2935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 Produces cells with the same number of chromosomes as the parent cel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5918040" y="1654200"/>
            <a:ext cx="290700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duces 4 ce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duces sex ce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ed for genetic var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duces cells with half the number of chromosomes as the parent cel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val 3"/>
          <p:cNvSpPr/>
          <p:nvPr/>
        </p:nvSpPr>
        <p:spPr>
          <a:xfrm>
            <a:off x="0" y="882720"/>
            <a:ext cx="5780160" cy="578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4"/>
          <p:cNvSpPr/>
          <p:nvPr/>
        </p:nvSpPr>
        <p:spPr>
          <a:xfrm>
            <a:off x="3363840" y="882720"/>
            <a:ext cx="5780160" cy="578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3595680" y="2789280"/>
            <a:ext cx="2076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oth create offsp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671400" y="360360"/>
            <a:ext cx="33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xual Re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5249880" y="360360"/>
            <a:ext cx="35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exual Re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639720" y="1728720"/>
            <a:ext cx="290664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volves 2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ffspring have a combination of DNA from th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ffspring will be uni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st animals and plants can use this type of rep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5918040" y="1654200"/>
            <a:ext cx="290700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volves 1 par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ffspring have identical DNA to the par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karyotes like bacteria, starfish, sponges, and plants can use this type of rep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13:01:12Z</dcterms:created>
  <dc:creator>Caroline Roth</dc:creator>
  <dc:description/>
  <dc:language>en-US</dc:language>
  <cp:lastModifiedBy>Caroline Roth</cp:lastModifiedBy>
  <dcterms:modified xsi:type="dcterms:W3CDTF">2010-10-29T20:18:15Z</dcterms:modified>
  <cp:revision>3</cp:revision>
  <dc:subject/>
  <dc:title>U3 Study Guide</dc:title>
</cp:coreProperties>
</file>